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png" ContentType="image/png"/>
  <Override PartName="/ppt/media/image29.jpeg" ContentType="image/jpeg"/>
  <Override PartName="/ppt/media/image13.jpeg" ContentType="image/jpe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22.jpeg" ContentType="image/jpe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114f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114f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114ff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767040" y="2284560"/>
            <a:ext cx="1609920" cy="228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040" y="304920"/>
            <a:ext cx="2772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ROYE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08240" y="563400"/>
            <a:ext cx="2738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276720"/>
            <a:ext cx="8694720" cy="1307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La Radioaficion un Camino Seguro y Sin Peligr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915160"/>
            <a:ext cx="876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grama de Educación y Desarrollo Tecno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43200" y="1828800"/>
            <a:ext cx="359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adio Club Ushuaia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ierra del Fuego</a:t>
            </a:r>
            <a:endParaRPr b="1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928800"/>
            <a:ext cx="813096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0128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¿Que puede proveer la radioaficion.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ndarles la posibilidad de encararlo como un hobby-ciencia con una calidad de esparcimiento superlati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Proveerles una formación técnica, pasible de servir como sustento a una profesión o hacia estudios superiores o una salida labo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Un ámbito de relación social de amplio espect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n medio de divulgación y aprovechamiento de los resultados que de esta manera se obtengan, ya sea por el trabajo individual o colec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928800"/>
            <a:ext cx="813096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c0128"/>
                </a:solidFill>
                <a:uFillTx/>
                <a:latin typeface="Arial"/>
              </a:rPr>
              <a:t>¿Como hacerlo.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eparando y distribuyendo un folleto que sirva, en un todo o como base para explicar con detalles el contenido y objeto de la radioafic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esentaciones electronicas destinadas a explicar el proyecto ante Educadores y Docen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eparacion de presentaciones electronicas destinadas a presentar la actividad de los radioaficionados a estudiantes y publico en gener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ctividades operativas de difusion individual y col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olucion de la Secretaria de Comunicaciones SC 76/20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81680" y="5181480"/>
            <a:ext cx="190512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41240" y="533520"/>
            <a:ext cx="4294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adicciones y las insegur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 un camino equivocad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sendero de sufrimiento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olación que atrapa a tod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clases social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no distingue el color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el , los recursos econó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el grado  de 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5880" y="4049640"/>
            <a:ext cx="419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futuro sombrío y de fran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speranza que, pese a to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ede ser modificado actua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damente y con a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idaria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952880" y="380988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05740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2287440" cy="1949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38600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e a los numerosos Programas de Prevención y Capacitació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almente miles de jóvenes son azotados por el flagel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 adicciones o desviados a la marginalidad o 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íctimas de depresiones y desinter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La Sociedad de consumo No alcanza a articular todas l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respuestas necesarias, especificas y efectivas que seña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caminos alternativos de esperanza y solidar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 de jóvenes deambulan sin rumbos claros y 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ácil presa de actividades de distinta índole que sir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trampolín al mundo de las insegur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33520" y="5029200"/>
            <a:ext cx="990360" cy="160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238880" y="4572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33520" y="4572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perar1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TR4C_28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1905120" cy="1261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a Sociedad y los Gobiernos tien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rganizaciones e Instituciones que noblemente y con ahín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rabajan denodadamente como elemen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 prevención y corrección para aten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a problemática de las adicciones y seguridad de nuestros jóve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a Radioaficion, un Camino Seguro y Sin Peligros”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s un plan alternativo, que se brinda como una respue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otencialmente  posible, con la aplicación de u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rrecto y completo Programa  de Educación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sarrollo Tecnológ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perar2" descr=""/>
          <p:cNvPicPr/>
          <p:nvPr/>
        </p:nvPicPr>
        <p:blipFill>
          <a:blip r:embed="rId1"/>
          <a:stretch/>
        </p:blipFill>
        <p:spPr>
          <a:xfrm>
            <a:off x="457200" y="4876920"/>
            <a:ext cx="1143000" cy="1571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undamentos y Objetivos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ino alternativo para encausar a los jóvenes adolescentes y apartarlos de los males de las adicciones y caminos equivocado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pertar el interés y ayudarlos a desarrollarse por senderos mas beneficiosos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l aprovechamiento de Instituciones y miles de aficionados a una actividad sin fines de lucro con proyecciones futuras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ecimiento de un marco de supervisión y contención de acción indirecta pero eficiente.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1" name="d104" descr=""/>
          <p:cNvPicPr/>
          <p:nvPr/>
        </p:nvPicPr>
        <p:blipFill>
          <a:blip r:embed="rId2"/>
          <a:stretch/>
        </p:blipFill>
        <p:spPr>
          <a:xfrm>
            <a:off x="8001000" y="380880"/>
            <a:ext cx="6285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370240"/>
            <a:ext cx="2286000" cy="2117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467480" y="5334120"/>
            <a:ext cx="1114560" cy="1042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1360440" cy="13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29000" y="2698920"/>
            <a:ext cx="2286000" cy="1460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1295280"/>
            <a:ext cx="8686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adioaficion se encuentra reglamentada por convenios internacionales como el Servicio de Aficionados de la Unión Internacional de Telecomunicaciones, una actividad de estudio, intercomunicación y experimentación de carácter colectivo e individ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puede definir como un Hobby-Ciencia que resulta un ámbito de esparcimiento, actividades colectivas, estudio y experimentación con amplias posibilidades de intercomunicación a nivel internacio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aplicación del Programa propuesto, provee una formación técnica de base que puede servir como sustento a proyecciones de estudios superiores o directamente como alternativa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75a22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3%20impreso%20nº%202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ct12dx" descr=""/>
          <p:cNvPicPr/>
          <p:nvPr/>
        </p:nvPicPr>
        <p:blipFill>
          <a:blip r:embed="rId4"/>
          <a:stretch/>
        </p:blipFill>
        <p:spPr>
          <a:xfrm>
            <a:off x="762120" y="53341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110" name="5%20vista%20lateral" descr=""/>
          <p:cNvPicPr/>
          <p:nvPr/>
        </p:nvPicPr>
        <p:blipFill>
          <a:blip r:embed="rId5"/>
          <a:stretch/>
        </p:blipFill>
        <p:spPr>
          <a:xfrm>
            <a:off x="6781680" y="304920"/>
            <a:ext cx="1524240" cy="83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95280"/>
            <a:ext cx="8686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c0128"/>
                </a:solidFill>
                <a:uFillTx/>
                <a:latin typeface="Arial"/>
              </a:rPr>
              <a:t>Programa de Educación y Desarrol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c0128"/>
                </a:solidFill>
                <a:uFillTx/>
                <a:latin typeface="Arial"/>
              </a:rPr>
              <a:t>La Radioaficion un Camino Seguro y Sin Pelig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bito: El Servicio de Aficionados de la UIT dentro del marco reglamentario ya existente, establecido por la Comisión Nacional de Comun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ticipantes posibles: Miles de aficionados, Radio Clubes, Instituciones sin fines de lucro y Agrupaciones de la ac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jetivo: Proveer un camino alternativo que atraiga la atención de los jóvenes y que permita actuar como elemento de contención, posibilitando que los Radio Clubes y entidades afines jueguen un rol protagonico con una mayor inserción so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mentos necesarios: Desarrollo de un programa adecuado a la realidad de nuestro país consistente en la formación como aficionados a la radiocomunicacion de un numero ilimitado de perso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795600" cy="76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19280" cy="73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457200"/>
            <a:ext cx="81309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Elementos del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cción de difusión, mediante charlas, presentaciones y conferencias  apoyadas por películas, videos y/o folletos pa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 distribución esencialmente en el ámbito de la educación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cuandolo a las edades mas apropi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ursos, compuestos por manuales, videos, programa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ción y los elementos de apoyo neces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ecnología: conjuntos preparados para el armado por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los alumnos de equipos básicos para su inserción en la ac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ctividades operativas de toda índole, que permitan la difusión del proyecto, como así mismo la revalorización de la radioaficion en todos sus aspec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1004760" cy="871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806400" cy="505080"/>
          </a:xfrm>
          <a:prstGeom prst="rect">
            <a:avLst/>
          </a:prstGeom>
          <a:ln w="0">
            <a:noFill/>
          </a:ln>
        </p:spPr>
      </p:pic>
      <p:pic>
        <p:nvPicPr>
          <p:cNvPr id="117" name="1%20frente%20del%20equipo" descr=""/>
          <p:cNvPicPr/>
          <p:nvPr/>
        </p:nvPicPr>
        <p:blipFill>
          <a:blip r:embed="rId3"/>
          <a:stretch/>
        </p:blipFill>
        <p:spPr>
          <a:xfrm>
            <a:off x="304920" y="5638680"/>
            <a:ext cx="822240" cy="45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533520"/>
            <a:ext cx="813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c0128"/>
                </a:solidFill>
                <a:uFillTx/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c0128"/>
                </a:solidFill>
                <a:uFillTx/>
                <a:latin typeface="Arial"/>
              </a:rPr>
              <a:t>Que puede proveer la radioaficion a los jovenes...?</a:t>
            </a: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 Apartarlos de los males de las adicciones y otras desviaciones perniciosas de conduc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spertar su interés y potencialidades mediante una actividad dinámica y apasion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provechar los aficionados e las Instituciones del medio para que guiarlos hacia una actividad sin fines de lucro pero que brinda colateralmente posibilidades de encarar una carrera profe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blecer un marco de supervisión y contención indirecto pero efici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niciarlos en una actividad que demanda cierta disciplina, en tanto esta reglamentada por convenios internacionales que propenden al estudio, intercomunicación, experiment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14:06:48Z</dcterms:created>
  <dc:creator>Alberto U. SILVA, LU1DZ</dc:creator>
  <dc:description/>
  <dc:language>en-US</dc:language>
  <cp:lastModifiedBy>Uranito</cp:lastModifiedBy>
  <cp:lastPrinted>2001-03-05T13:31:24Z</cp:lastPrinted>
  <dcterms:modified xsi:type="dcterms:W3CDTF">2004-12-18T14:10:15Z</dcterms:modified>
  <cp:revision>12</cp:revision>
  <dc:subject/>
  <dc:title>La Radio un Camino Seguro</dc:title>
</cp:coreProperties>
</file>